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E8B-6F46-4DF7-ACFA-A9A49573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B15-1663-4076-8983-1057904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F6BA-C605-4B60-9E74-D5AC1A54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2C3-13C7-4AB1-A704-D211B3AF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1B4-0F1E-4B99-BFC2-E1616CA0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91C2-71EF-4A28-8C8C-5B940DEA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AC2-429C-417A-B63C-76C10FF0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A794-4BDB-4B74-93A1-345F617D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FF4-CA05-4660-B2D8-2B56BFD8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A91-C8AE-4934-A2C7-11C1289D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FD4-FBDE-42D0-855F-D21AF43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6B36-AD2C-4484-8272-741BE44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144-4ED0-45B0-A64B-D1A0BC850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feld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e der Spielergebnisse durch den Spielle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feld 4"/>
          <p:cNvSpPr/>
          <p:nvPr/>
        </p:nvSpPr>
        <p:spPr>
          <a:xfrm>
            <a:off x="0" y="64296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Markt, Marketing-Mix, Nachfrage, Absatz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n Teilnehmerberich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11: Marktforschungsberic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- Executive Summary       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feld 5"/>
          <p:cNvSpPr/>
          <p:nvPr/>
        </p:nvSpPr>
        <p:spPr>
          <a:xfrm>
            <a:off x="0" y="42148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Deckungsbeitrag und Ebi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mit dem Seminarleiterbericht Deckungsbeiträge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eilnehmerbericht 8: Deckungsbeitragsrechn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feld 6"/>
          <p:cNvSpPr/>
          <p:nvPr/>
        </p:nvSpPr>
        <p:spPr>
          <a:xfrm>
            <a:off x="0" y="53578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lanzanalyse insbesondere auch Entwicklung des Fremdkapit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Seminarleiterberichten V: Geschäftsberichte der Branch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7: Kennzahl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 dem Teilnehmerbericht 9: Finanzbericht und Bilan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feld 7"/>
          <p:cNvSpPr/>
          <p:nvPr/>
        </p:nvSpPr>
        <p:spPr>
          <a:xfrm>
            <a:off x="0" y="178596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    Auslastung der Produktionsfaktoren (Maschinen, Arbeiter, Materia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 dem Teilnehmerbericht 4 Flächenverwendung, Abschreibungen, Kapazität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 Seminarleiterbericht III: Interne Abläu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feld 8"/>
          <p:cNvSpPr/>
          <p:nvPr/>
        </p:nvSpPr>
        <p:spPr>
          <a:xfrm>
            <a:off x="0" y="30718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ostensituat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besondere Entwicklung der Herstellkosten mit den Teilnehmerbericht 7: Kostenträgerrechnung und de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minarleiterbericht 7: Kennzahl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7:06:17Z</dcterms:created>
  <dc:creator>aka</dc:creator>
  <dc:description/>
  <dc:language>en-US</dc:language>
  <cp:lastModifiedBy>EGS</cp:lastModifiedBy>
  <dcterms:modified xsi:type="dcterms:W3CDTF">2009-06-08T21:13:44Z</dcterms:modified>
  <cp:revision>11</cp:revision>
  <dc:subject/>
  <dc:title>Folie 1</dc:title>
</cp:coreProperties>
</file>